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B2E-A64C-446D-A28F-504735FE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472-CE25-4632-A093-12939C67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D66-4F24-4653-9C91-77BEF347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F36-1838-4071-A480-F0B27D74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31D1-9599-4966-A3D5-E56E0246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1297-1811-437B-A687-3B7C5CE6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0A0D-7E87-41E9-9845-A2FCC2A0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FD07-4548-4E29-89FD-076EA23F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E10A-C95B-4831-B234-74020250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DAFE-06D5-4ACD-88EC-B494A7C5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268E-E853-44AF-B456-8E73D502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BB0-FEC4-4B3D-BDBC-AECADC61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134F-FB81-4C16-96D6-3D63A81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2619-3203-4C2F-A478-E06C086D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AF7F-AB7D-4B39-A8C8-1F5D84AD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4F86-65D4-49D6-B1F1-667A0F3D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2E06-FCB3-4BD7-8D94-6D8DFEB9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721-5552-4BE5-AB1E-2AF0FBFA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3E0-34AC-49E9-866A-3583D2F5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0BD-D197-4794-B9BF-F74A7C38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1C3-AFD2-4737-BA62-8238E163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045-E131-418C-8D26-8BAFB6B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1CC-BB77-4716-9610-7CAE6E85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DF0-D962-4F2F-B882-A231B15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A677-CDA6-4DC5-94AB-2AFACCA05A5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84E7-BAA0-4FEB-9EDD-A0DF67F720A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7560" y="150840"/>
            <a:ext cx="60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РЕПУБЛИЧКИ ЗАВОД ЗА СТАТИСТИ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88800" y="60944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Београд, јун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086600" y="5486400"/>
            <a:ext cx="1295280" cy="779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2057400"/>
            <a:ext cx="87631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пис становништва, домаћинстава и станова 20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ff"/>
                </a:solidFill>
                <a:latin typeface="Arial"/>
              </a:rPr>
              <a:t>СТАНОВ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ffffff"/>
                </a:solidFill>
                <a:latin typeface="Arial"/>
              </a:rPr>
              <a:t>Коришћење и настањена лица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 насељи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952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4952880"/>
            <a:ext cx="5335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1219320"/>
          <a:ext cx="891540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57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Напуштени станов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4114800"/>
          <a:ext cx="8915400" cy="236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114800"/>
                    <a:ext cx="8915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431520" y="380844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6320" y="380844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cc66"/>
                </a:solidFill>
                <a:latin typeface="Arial"/>
              </a:rPr>
              <a:t>према типу насељ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440" y="1295280"/>
          <a:ext cx="910440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295280"/>
                    <a:ext cx="910440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68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Станови који се повремено користе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219320"/>
          <a:ext cx="9144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75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 rot="16200000">
            <a:off x="4000320" y="-4000680"/>
            <a:ext cx="11430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Станови за одмор и рекреацију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8000" y="3971880"/>
          <a:ext cx="9036000" cy="250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3971880"/>
                    <a:ext cx="903600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580920" y="365436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9240" y="3603600"/>
            <a:ext cx="214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cc66"/>
                </a:solidFill>
                <a:latin typeface="Arial"/>
              </a:rPr>
              <a:t>према типу насељ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43080" y="1841400"/>
          <a:ext cx="389880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841400"/>
                    <a:ext cx="389880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86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"/>
          <p:cNvSpPr/>
          <p:nvPr/>
        </p:nvSpPr>
        <p:spPr>
          <a:xfrm>
            <a:off x="457200" y="1676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9880" y="1676520"/>
          <a:ext cx="5334120" cy="286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676520"/>
                    <a:ext cx="533412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324120" y="167652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ентрална Срб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403848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ојвод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2760" y="403848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рад Беогр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880" y="4267080"/>
          <a:ext cx="3848400" cy="243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267080"/>
                    <a:ext cx="38484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495680" y="4254480"/>
          <a:ext cx="4318200" cy="269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95680" y="4254480"/>
                    <a:ext cx="43182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 rot="16200000">
            <a:off x="3733560" y="-3733920"/>
            <a:ext cx="167652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Станови у којима се искључиво обавља делатност </a:t>
            </a:r>
            <a:br>
              <a:rPr sz="3000"/>
            </a:br>
            <a:r>
              <a:rPr b="1" lang="sr-CS" sz="20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ffcc66"/>
                </a:solidFill>
                <a:latin typeface="Arial"/>
              </a:rPr>
              <a:t>према типу насеља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1440000"/>
          <a:ext cx="918216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00"/>
                    <a:ext cx="91821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203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0" y="5562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публика Србија  Централна Србија       Војводина             Град Беогр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cc66"/>
                </a:solidFill>
                <a:latin typeface="Arial"/>
              </a:rPr>
              <a:t>Друге просторије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rot="16200000">
            <a:off x="4076640" y="-4076280"/>
            <a:ext cx="99072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ПОПИС 2002. – Планиране публикациј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447920"/>
            <a:ext cx="84582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Књига 2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ТАНОВИ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Врста,својина и опремљеност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 (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по насељима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)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– Станови за стално становањеи и површина према врсти стана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опремљености инсталацијама и помоћним просторијама и број станова у својини физичких лица</a:t>
            </a:r>
            <a:r>
              <a:rPr b="0" lang="sr-Latn-CS" sz="2400" spc="-1" strike="noStrike">
                <a:solidFill>
                  <a:srgbClr val="ffffff"/>
                </a:solidFill>
                <a:latin typeface="Cir Times_New_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551400"/>
            <a:ext cx="83203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Књига 3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ТАНОВИ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Величина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квалитет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година изградње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војина</a:t>
            </a:r>
            <a:r>
              <a:rPr b="1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домаћинства и лица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(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по општинама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181480"/>
            <a:ext cx="83822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ffffff"/>
                </a:solidFill>
                <a:latin typeface="Arial"/>
              </a:rPr>
              <a:t>Књига 4</a:t>
            </a:r>
            <a:r>
              <a:rPr b="0" lang="sr-Latn-C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300" spc="-1" strike="noStrike">
                <a:solidFill>
                  <a:srgbClr val="ffcc66"/>
                </a:solidFill>
                <a:latin typeface="Arial"/>
              </a:rPr>
              <a:t>СТАНОВИ ЗА ОДМОР И РЕКРЕАЦИЈУ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Величина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квалитет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година изградње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и врста зграде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 (</a:t>
            </a:r>
            <a:r>
              <a:rPr b="0" lang="sr-CS" sz="2300" spc="-1" strike="noStrike">
                <a:solidFill>
                  <a:srgbClr val="ffcc66"/>
                </a:solidFill>
                <a:latin typeface="Arial"/>
              </a:rPr>
              <a:t>по насељима</a:t>
            </a:r>
            <a:r>
              <a:rPr b="0" lang="sr-Latn-CS" sz="2300" spc="-1" strike="noStrike">
                <a:solidFill>
                  <a:srgbClr val="ffcc66"/>
                </a:solidFill>
                <a:latin typeface="Arial"/>
                <a:ea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213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0199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3505320" y="-1371240"/>
            <a:ext cx="213336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2362320"/>
            <a:ext cx="70866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Републички завод за статистику Србиј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еоград, Милана Ракића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ел. 2412-9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ww.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: stat@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4800600"/>
            <a:ext cx="5715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Одељење за односе са јавношћ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тел./факс  2401-2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ww.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: stat@statserb.sr.gov.y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15200" y="2819520"/>
            <a:ext cx="1295280" cy="779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7360" y="225360"/>
            <a:ext cx="8483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00"/>
                </a:solidFill>
                <a:latin typeface="Arial"/>
              </a:rPr>
              <a:t>РЕПУБЛИКА СРБИЈА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00"/>
                </a:solidFill>
                <a:latin typeface="Arial"/>
              </a:rPr>
              <a:t>РЕПУБЛИЧКИ ЗАВОД ЗА СТАТИСТИКУ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0880" y="2057400"/>
          <a:ext cx="8458200" cy="406404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1939680"/>
                <a:gridCol w="1793880"/>
              </a:tblGrid>
              <a:tr h="812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ој стан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градск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ељи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осталим насељи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Републик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565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925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39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Централн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38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72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66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Војвод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26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53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73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89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28600" y="1447920"/>
          <a:ext cx="89154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915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96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 rot="16200000">
            <a:off x="4113360" y="411336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962160" y="-3962520"/>
            <a:ext cx="121932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838080" y="1905120"/>
          <a:ext cx="7467840" cy="4267080"/>
        </p:xfrm>
        <a:graphic>
          <a:graphicData uri="http://schemas.openxmlformats.org/drawingml/2006/table">
            <a:tbl>
              <a:tblPr/>
              <a:tblGrid>
                <a:gridCol w="2436840"/>
                <a:gridCol w="1179720"/>
                <a:gridCol w="1257120"/>
                <a:gridCol w="1336680"/>
                <a:gridCol w="1257480"/>
              </a:tblGrid>
              <a:tr h="650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одина попи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епублик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Централна Срб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ојвод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Град Беогр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-4680" y="6537240"/>
            <a:ext cx="8996400" cy="320400"/>
            <a:chOff x="-4680" y="6537240"/>
            <a:chExt cx="8996400" cy="320400"/>
          </a:xfrm>
        </p:grpSpPr>
        <p:sp>
          <p:nvSpPr>
            <p:cNvPr id="103" name=""/>
            <p:cNvSpPr/>
            <p:nvPr/>
          </p:nvSpPr>
          <p:spPr>
            <a:xfrm>
              <a:off x="-4680" y="654336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8458200" y="653724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858000" y="14446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У хиљада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 ЗА СТАЛНО СТАНОВАЊЕ</a:t>
            </a:r>
            <a:br>
              <a:rPr sz="3000"/>
            </a:br>
            <a:r>
              <a:rPr b="1" lang="sr-CS" sz="2000" spc="-1" strike="noStrike">
                <a:solidFill>
                  <a:srgbClr val="ffcc66"/>
                </a:solidFill>
                <a:latin typeface="Arial"/>
              </a:rPr>
              <a:t>ПОДАЦИ ИЗ ПОПИСА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1371600"/>
          <a:ext cx="9144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-4680" y="6537240"/>
            <a:ext cx="8996400" cy="320400"/>
            <a:chOff x="-4680" y="6537240"/>
            <a:chExt cx="8996400" cy="320400"/>
          </a:xfrm>
        </p:grpSpPr>
        <p:sp>
          <p:nvSpPr>
            <p:cNvPr id="111" name=""/>
            <p:cNvSpPr/>
            <p:nvPr/>
          </p:nvSpPr>
          <p:spPr>
            <a:xfrm>
              <a:off x="-4680" y="654336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724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БРОЈ СТАНОВА ЗА СТАЛНО СТАНОВАЊЕ</a:t>
            </a:r>
            <a:br>
              <a:rPr sz="3000"/>
            </a:br>
            <a:r>
              <a:rPr b="1" lang="sr-CS" sz="2000" spc="-1" strike="noStrike">
                <a:solidFill>
                  <a:srgbClr val="ffcc66"/>
                </a:solidFill>
                <a:latin typeface="Arial"/>
              </a:rPr>
              <a:t>ПОДАЦИ ИЗ ПОПИСА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7280" y="1420920"/>
            <a:ext cx="14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У хиљада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3049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УКУПНО СТАН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38160" y="419040"/>
          <a:ext cx="918216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419040"/>
                    <a:ext cx="918216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547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У мил</a:t>
            </a: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21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23" name=""/>
          <p:cNvGraphicFramePr/>
          <p:nvPr/>
        </p:nvGraphicFramePr>
        <p:xfrm>
          <a:off x="0" y="3124080"/>
          <a:ext cx="9177480" cy="358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124080"/>
                    <a:ext cx="9177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58128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У м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812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СТАНОВИ ЗА СТАЛНО СТАНОВА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31840" y="1795320"/>
          <a:ext cx="8864640" cy="46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795320"/>
                    <a:ext cx="8864640" cy="46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261040" y="16747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31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 rot="16200000">
            <a:off x="3924360" y="-3924000"/>
            <a:ext cx="129528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cc66"/>
                </a:solidFill>
                <a:latin typeface="Arial"/>
              </a:rPr>
              <a:t>СТАНОВИ ПРЕМА КОРИШЋЕЊУ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523880"/>
          <a:ext cx="8731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731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38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3355200" y="144612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Arial"/>
              </a:rPr>
              <a:t>Станови</a:t>
            </a:r>
            <a:br>
              <a:rPr sz="4400"/>
            </a:br>
            <a:r>
              <a:rPr b="1" lang="sr-CS" sz="2400" spc="-1" strike="noStrike">
                <a:solidFill>
                  <a:srgbClr val="ffcc66"/>
                </a:solidFill>
                <a:latin typeface="Arial"/>
              </a:rPr>
              <a:t>ненастањени и који се користе повремено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01520" y="1117440"/>
          <a:ext cx="9042480" cy="28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117440"/>
                    <a:ext cx="9042480" cy="28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-4680" y="6531120"/>
            <a:ext cx="8996400" cy="320400"/>
            <a:chOff x="-4680" y="6531120"/>
            <a:chExt cx="8996400" cy="320400"/>
          </a:xfrm>
        </p:grpSpPr>
        <p:sp>
          <p:nvSpPr>
            <p:cNvPr id="146" name=""/>
            <p:cNvSpPr/>
            <p:nvPr/>
          </p:nvSpPr>
          <p:spPr>
            <a:xfrm>
              <a:off x="-4680" y="6537240"/>
              <a:ext cx="37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чки завод за статистику Србиј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8458200" y="6531120"/>
              <a:ext cx="53352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 rot="16200000">
            <a:off x="3886200" y="-3885840"/>
            <a:ext cx="1371600" cy="9144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66"/>
                </a:solidFill>
                <a:latin typeface="Arial"/>
              </a:rPr>
              <a:t>Привремено ненастањени станови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6360" y="4267080"/>
          <a:ext cx="918396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60" y="4267080"/>
                    <a:ext cx="9183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355200" y="396072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8960" y="4111560"/>
            <a:ext cx="2306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ffcc66"/>
                </a:solidFill>
                <a:latin typeface="Arial"/>
              </a:rPr>
              <a:t>према</a:t>
            </a:r>
            <a:r>
              <a:rPr b="0" lang="sr-CS" sz="1800" spc="-1" strike="noStrike">
                <a:solidFill>
                  <a:srgbClr val="ffcc66"/>
                </a:solidFill>
                <a:latin typeface="Arial"/>
              </a:rPr>
              <a:t> типу насељ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16:21:45Z</dcterms:created>
  <dc:creator>user</dc:creator>
  <dc:description/>
  <dc:language>en-US</dc:language>
  <cp:lastModifiedBy>Natalija</cp:lastModifiedBy>
  <dcterms:modified xsi:type="dcterms:W3CDTF">2004-06-25T13:54:23Z</dcterms:modified>
  <cp:revision>142</cp:revision>
  <dc:subject/>
  <dc:title>PowerPoint Presentation</dc:title>
</cp:coreProperties>
</file>